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5E59-64BC-4BA6-BEFA-F24B1E7B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5D05-936A-4B45-8A18-C7831ED9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9DF6-52AE-49F3-ADCB-D4EEBBA9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F03A-FFDE-4F50-B8C5-46D28FB6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63B5-2889-4840-92A4-86CAC263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DAFD-2A83-49F3-8FB3-C54FC1A9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6B93-EAE9-4653-821C-615182CA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AC7A-A38A-4F88-AE45-C0CBAC61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5E23-3BC1-43E6-BFAD-7618DBB4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96A9-CAAA-43C6-A8A5-51503215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EEC4-D9ED-4777-B4E5-144E38A2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4CC3-B80E-4453-BBA0-A30D3598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2CB9-FE1F-410A-99DB-8E4DB7172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web.mit.edu/invent/iow/johnson.htm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10280" y="4572000"/>
            <a:ext cx="1676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19320" y="838080"/>
            <a:ext cx="716256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8100000"/>
                </a:gradFill>
                <a:latin typeface="Impact"/>
              </a:rPr>
              <a:t>The Super Soak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8100000"/>
              </a:grad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42670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lay music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changes happe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13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59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L. Johnson"/>
          <p:cNvPicPr/>
          <p:nvPr/>
        </p:nvPicPr>
        <p:blipFill>
          <a:blip r:embed="rId2"/>
          <a:srcRect l="0" t="0" r="75013" b="0"/>
          <a:stretch/>
        </p:blipFill>
        <p:spPr>
          <a:xfrm>
            <a:off x="533520" y="609480"/>
            <a:ext cx="1904760" cy="234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L. Johnson"/>
          <p:cNvPicPr/>
          <p:nvPr/>
        </p:nvPicPr>
        <p:blipFill>
          <a:blip r:embed="rId3"/>
          <a:srcRect l="26005" t="0" r="0" b="0"/>
          <a:stretch/>
        </p:blipFill>
        <p:spPr>
          <a:xfrm rot="20292600">
            <a:off x="2971440" y="1599840"/>
            <a:ext cx="5638680" cy="2349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5486400"/>
            <a:ext cx="8534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onnie johns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2,2010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eb.mit.edu/invent/iow/johns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The Super So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nie with his partner D’andrade created a  workable prototype of the new famous Super Soaker in 198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per Soaker was invented in 1988 under the original idea name “Power Drencher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per Soaker uses an air pump to pressurize it’s water sup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1990 over 40 billion have been generated over $200 million in sales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zens of websites are devoted to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per Soaker has tremendous distance and accuracy in water markman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Lonnie G. John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four years  Lonnie has been inventing thermodynamics system for NASA and other organiz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nie's Senior year in high school he won national inventing competion for lin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nie first earned a B.S. in mechanical engineering in 19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nie earned a M.S. in nuclear engineering in 19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nie Joined the U.S Air force when he became an advance space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3:19:46Z</dcterms:created>
  <dc:creator>install</dc:creator>
  <dc:description/>
  <dc:language>en-US</dc:language>
  <cp:lastModifiedBy>install</cp:lastModifiedBy>
  <dcterms:modified xsi:type="dcterms:W3CDTF">2010-05-14T13:03:40Z</dcterms:modified>
  <cp:revision>8</cp:revision>
  <dc:subject/>
  <dc:title>Slide 1</dc:title>
</cp:coreProperties>
</file>